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whoosh.wav" ContentType="audio/x-wav"/>
  <Override PartName="/ppt/media/image22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gif" ContentType="image/gif"/>
  <Override PartName="/ppt/media/image29.wmf" ContentType="image/x-wmf"/>
  <Override PartName="/ppt/media/image6.wmf" ContentType="image/x-wmf"/>
  <Override PartName="/ppt/media/image11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12.jpeg" ContentType="image/jpeg"/>
  <Override PartName="/ppt/media/image13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9.wmf" ContentType="image/x-wmf"/>
  <Override PartName="/ppt/media/carbrake.wav" ContentType="audio/x-wav"/>
  <Override PartName="/ppt/media/image14.jpeg" ContentType="image/jpeg"/>
  <Override PartName="/ppt/media/image8.gif" ContentType="image/gi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5.jpeg" ContentType="image/jpeg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C0E6-6C79-4DF8-86B0-A20F5756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2CB-6E86-4E9E-B6E5-3ABFC28D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30E-E8AA-4CC1-B2B3-DC774E25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989-121B-4886-A947-6595968E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6EC2-9FE5-4256-98AA-9AB60C50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3D6-D9C5-4095-B591-6D4B7005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8C3-1CD9-40CE-8D5E-DC4794F5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270-FEAE-4096-9F6F-6742BF82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B152-809A-4EB4-ACE4-27BB90F6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DBB-E490-4E48-B914-937DCF73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9FE-9951-4192-9E94-B0C4A529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C06-A543-4007-B916-AE6963AA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6FBC-4C47-4539-941C-3DAA6A924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1.wmf"/><Relationship Id="rId4" Type="http://schemas.openxmlformats.org/officeDocument/2006/relationships/image" Target="../media/image10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online.jeffco.k12.co.us/login/secretary.gif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kidstravelzone.com/Embroidery/Embpics/policeman.gif&amp;imgrefurl=http://www.discovervancouver.com/forum/topic.asp%3FTOPIC_ID%3D122964&amp;h=300&amp;w=246&amp;sz=30&amp;tbnid=txbVPwnij6nnYM:&amp;tbnh=116&amp;tbnw=95&amp;prev=/images%3Fq%3Dpoliceman%26um%3D1&amp;start=3&amp;ei=6ZPiRqjQApj8wwHmqtTXDA&amp;sig2=wJM8-2lQ6NRRtS2PDrc4vA&amp;sa=X&amp;oi=images&amp;ct=image&amp;cd=3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5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4.wmf"/><Relationship Id="rId5" Type="http://schemas.openxmlformats.org/officeDocument/2006/relationships/image" Target="../media/image23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25.wmf"/><Relationship Id="rId3" Type="http://schemas.openxmlformats.org/officeDocument/2006/relationships/image" Target="../media/image29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the verb ser- 1 way of saying “to b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16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read descriptions of jobs and match them to the prof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) to revise how to give opinions about various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) to learn how to describe how you earn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) To describe how you spend your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84720" y="4653000"/>
            <a:ext cx="1230480" cy="1838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1368360" cy="1832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140360" y="333360"/>
            <a:ext cx="1390320" cy="1841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451640" y="260280"/>
            <a:ext cx="1460520" cy="1838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635280" y="2575080"/>
            <a:ext cx="1006560" cy="1501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1743120" y="4803840"/>
            <a:ext cx="1749240" cy="1577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71640" y="2205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c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060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anj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04000" y="2060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mar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59280" y="4076640"/>
            <a:ext cx="23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fer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6308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6308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é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51280" y="515772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fesor /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32529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03640" y="494172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ombre / mujer de negoc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195640" y="1413000"/>
            <a:ext cx="5328720" cy="3168000"/>
            <a:chOff x="2195640" y="1413000"/>
            <a:chExt cx="5328720" cy="31680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3578760" y="1537200"/>
              <a:ext cx="3945600" cy="29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2195640" y="1413000"/>
              <a:ext cx="2295360" cy="316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419640" y="558972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ecretario /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49687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771640" y="50133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lectrici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3510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24000" y="3860640"/>
            <a:ext cx="3050640" cy="1817640"/>
            <a:chOff x="324000" y="3860640"/>
            <a:chExt cx="3050640" cy="181764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115640" y="3931920"/>
              <a:ext cx="2259000" cy="17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324000" y="3860640"/>
              <a:ext cx="1314000" cy="181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851280" y="765000"/>
            <a:ext cx="1754280" cy="1798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851280" y="4062240"/>
            <a:ext cx="1727280" cy="1382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84360" y="620640"/>
            <a:ext cx="1520640" cy="1817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2565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fe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8000" y="558972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mbre/mujer de 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55897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cr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48000" y="24782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lectric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00360" y="2228760"/>
            <a:ext cx="1943280" cy="2400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627280" y="494172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>
                <a:solidFill>
                  <a:srgbClr val="000000"/>
                </a:solidFill>
                <a:latin typeface="Arial"/>
              </a:rPr>
              <a:t>amo / a de c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Shop assistan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1341360"/>
            <a:ext cx="3733560" cy="328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24000" y="5084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>
                <a:solidFill>
                  <a:srgbClr val="000000"/>
                </a:solidFill>
                <a:latin typeface="Arial"/>
              </a:rPr>
              <a:t>depend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50920" y="443700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>
                <a:solidFill>
                  <a:srgbClr val="000000"/>
                </a:solidFill>
                <a:latin typeface="Arial"/>
              </a:rPr>
              <a:t>estoy en paro 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27280" y="981000"/>
            <a:ext cx="3951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92360" y="501336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>
                <a:solidFill>
                  <a:srgbClr val="000000"/>
                </a:solidFill>
                <a:latin typeface="Arial"/>
              </a:rPr>
              <a:t>(agente de) poli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http://www.discovervancouver.com/forum/topic.asp?TOPIC_ID=1229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765000"/>
            <a:ext cx="326052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traba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151000" cy="1778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http://www.discovervancouver.com/forum/topic.asp?TOPIC_ID=122964"/>
          <p:cNvPicPr/>
          <p:nvPr/>
        </p:nvPicPr>
        <p:blipFill>
          <a:blip r:embed="rId2"/>
          <a:stretch/>
        </p:blipFill>
        <p:spPr>
          <a:xfrm>
            <a:off x="468360" y="3141720"/>
            <a:ext cx="1963800" cy="2397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Shop assistants"/>
          <p:cNvPicPr/>
          <p:nvPr/>
        </p:nvPicPr>
        <p:blipFill>
          <a:blip r:embed="rId3"/>
          <a:stretch/>
        </p:blipFill>
        <p:spPr>
          <a:xfrm>
            <a:off x="2843280" y="3357720"/>
            <a:ext cx="2509920" cy="2209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132000" y="0"/>
            <a:ext cx="1943280" cy="2400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4000" y="5697360"/>
            <a:ext cx="216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800" spc="-1" strike="noStrike">
                <a:solidFill>
                  <a:srgbClr val="000000"/>
                </a:solidFill>
                <a:latin typeface="Arial"/>
              </a:rPr>
              <a:t>(agente d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800" spc="-1" strike="noStrike">
                <a:solidFill>
                  <a:srgbClr val="000000"/>
                </a:solidFill>
                <a:latin typeface="Arial"/>
              </a:rPr>
              <a:t>pol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2205000"/>
            <a:ext cx="208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800" spc="-1" strike="noStrike">
                <a:solidFill>
                  <a:srgbClr val="000000"/>
                </a:solidFill>
                <a:latin typeface="Arial"/>
              </a:rPr>
              <a:t>estoy en paro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59280" y="57340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800" spc="-1" strike="noStrike">
                <a:solidFill>
                  <a:srgbClr val="000000"/>
                </a:solidFill>
                <a:latin typeface="Arial"/>
              </a:rPr>
              <a:t>depe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66920" y="2411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800" spc="-1" strike="noStrike">
                <a:solidFill>
                  <a:srgbClr val="000000"/>
                </a:solidFill>
                <a:latin typeface="Arial"/>
              </a:rPr>
              <a:t>amo / a   de 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3852720" y="0"/>
            <a:ext cx="3509640" cy="359892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-5581800" y="3284640"/>
            <a:ext cx="5329080" cy="3168360"/>
            <a:chOff x="-5581800" y="3284640"/>
            <a:chExt cx="5329080" cy="316836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-4198320" y="3408840"/>
              <a:ext cx="3945600" cy="298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-5581800" y="3284640"/>
              <a:ext cx="2295360" cy="316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9540720" y="2349360"/>
            <a:ext cx="2719440" cy="3600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9396360" y="0"/>
            <a:ext cx="2732040" cy="4076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9540720" y="4734000"/>
            <a:ext cx="337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5.55556E-006 C -0.28437 -0.09397 -0.56857 -0.18772 -0.63125 -0.09791 C -0.69392 -0.0081 -0.36962 0.43033 -0.37656 0.53959 C -0.3835 0.64885 -0.77413 0.6544 -0.67343 0.55834 C -0.57274 0.46228 -0.17239 0.21228 0.22813 -0.03749 E">
                                      <p:cBhvr>
                                        <p:cTn id="57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03704E-006 C 0.18889 -0.24814 0.37795 -0.49629 0.53281 -0.49791 C 0.68767 -0.49953 0.92378 -0.11967 0.92969 -0.01041 C 0.93559 0.09885 0.64531 0.2551 0.56875 0.15834 C 0.49201 0.06158 0.47344 -0.6662 0.46875 -0.59166 C 0.46406 -0.51712 0.50225 0.04445 0.54062 0.60626 E">
                                      <p:cBhvr>
                                        <p:cTn id="576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81481E-006 C 0.30608 -0.05671 0.61233 -0.11319 0.775 0.00625 C 0.93733 0.1257 1.07396 0.60533 0.97483 0.71644 C 0.87587 0.82778 0.24584 0.7963 0.17969 0.675 C 0.11354 0.55348 0.45452 -0.10092 0.57795 -0.01273 C 0.70157 0.0757 0.81181 0.64074 0.9217 1.20602 E">
                                      <p:cBhvr>
                                        <p:cTn id="580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2.22222E-006 C 0.01095 -0.00139 0.02188 -0.00278 -0.07655 -0.10208 C -0.17499 -0.20139 -0.50555 -0.66898 -0.59062 -0.59583 C -0.67569 -0.52269 -0.73437 0.33611 -0.58749 0.3375 C -0.44062 0.33889 -0.07499 -0.12431 0.29063 -0.5875 E">
                                      <p:cBhvr>
                                        <p:cTn id="58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07407E-006 C -0.30052 -0.29283 -0.60087 -0.58588 -0.70937 -0.62477 C -0.81788 -0.66366 -0.79687 -0.20185 -0.65156 -0.23333 C -0.50625 -0.26435 -0.17187 -0.53843 0.1625 -0.81227 E">
                                      <p:cBhvr>
                                        <p:cTn id="58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55640" y="692280"/>
            <a:ext cx="770580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Arial"/>
              </a:rPr>
              <a:t>Ahora, en parejas, diga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500" spc="-1" strike="noStrike">
                <a:solidFill>
                  <a:srgbClr val="000000"/>
                </a:solidFill>
                <a:latin typeface="Arial"/>
              </a:rPr>
              <a:t>Mi padre es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500" spc="-1" strike="noStrike">
                <a:solidFill>
                  <a:srgbClr val="000000"/>
                </a:solidFill>
                <a:latin typeface="Arial"/>
              </a:rPr>
              <a:t>Mi madre es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500" spc="-1" strike="noStrike">
                <a:solidFill>
                  <a:srgbClr val="000000"/>
                </a:solidFill>
                <a:latin typeface="Arial"/>
              </a:rPr>
              <a:t>Mi abuelo es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500" spc="-1" strike="noStrike">
                <a:solidFill>
                  <a:srgbClr val="000000"/>
                </a:solidFill>
                <a:latin typeface="Arial"/>
              </a:rPr>
              <a:t>Mi hermano es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500" spc="-1" strike="noStrike">
                <a:solidFill>
                  <a:srgbClr val="000000"/>
                </a:solidFill>
                <a:latin typeface="Arial"/>
              </a:rPr>
              <a:t>En el futuro, quiero ser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4920" y="1193760"/>
          <a:ext cx="8929800" cy="4835520"/>
        </p:xfrm>
        <a:graphic>
          <a:graphicData uri="http://schemas.openxmlformats.org/drawingml/2006/table">
            <a:tbl>
              <a:tblPr/>
              <a:tblGrid>
                <a:gridCol w="360360"/>
                <a:gridCol w="1643040"/>
                <a:gridCol w="1841400"/>
                <a:gridCol w="2853000"/>
                <a:gridCol w="2232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J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W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egative 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ositive 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ac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on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ong h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t much discip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tressf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antastic holi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lf-employ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er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t as s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re freed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employ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witzer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 house or enough f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ppreciates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ar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rgent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ery, very h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resh a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1280" y="404640"/>
            <a:ext cx="81374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 think that being a doctor is more interesting than being a taxi dr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 think that a doctor earns more than a n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future I’d like to be a teacher because it generates a lot of satisfaction, but doesn’t pay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 would prefer to be a secretary because it’s less dangerous than being a sold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y dad likes his job because it’s 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 think that being an accountant pays well but isn’t an interesting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11280" y="404640"/>
            <a:ext cx="8137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o que ser deportista es 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s divertido que ser polic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o que un carnicero gana menos que un ciruj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 el futuro quiero ser estudiante porque hay muchas va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mi madre no le gusta su trabajo porque es estres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155736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the verb ser- 1 way of saying “to b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16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read descriptions of jobs and match them to the prof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) to revise how to give opinions about various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) to learn how to describe how you earn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) To describe how you spend your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84360" y="1844640"/>
            <a:ext cx="50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9000" spc="-1" strike="noStrike">
                <a:solidFill>
                  <a:srgbClr val="000000"/>
                </a:solidFill>
                <a:latin typeface="Comic Sans MS"/>
              </a:rPr>
              <a:t>Mi dinero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333360"/>
            <a:ext cx="87487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Tienes un trabajo a tiempo parcial?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2852640"/>
            <a:ext cx="882000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5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5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í, trabajo en…,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5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á en…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ano... libras por hor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56000" y="476280"/>
            <a:ext cx="4321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er = to b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175896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226224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276696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327024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377496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427824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478296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528624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758960"/>
            <a:ext cx="201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2262240"/>
            <a:ext cx="201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66960"/>
            <a:ext cx="201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/sh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270240"/>
            <a:ext cx="201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3759120"/>
            <a:ext cx="201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4264200"/>
            <a:ext cx="201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4767120"/>
            <a:ext cx="201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5272200"/>
            <a:ext cx="201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¿Cómo gastas tu diner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3047760" cy="1931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562720" y="4452840"/>
            <a:ext cx="2923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096920"/>
            <a:ext cx="87631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000000"/>
                </a:solidFill>
                <a:latin typeface="Comic Sans MS"/>
              </a:rPr>
              <a:t>Normalmente lo gasto en ….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679840" y="838080"/>
            <a:ext cx="3784320" cy="3468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09480" y="487692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ir al ci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359160" y="380880"/>
            <a:ext cx="2424240" cy="4108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90720" y="43434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salidas con mis amig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029200" cy="4940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23960" y="518148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ir a discotec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2209680" cy="2170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324480" y="615960"/>
            <a:ext cx="1660680" cy="2813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321000" y="3429000"/>
            <a:ext cx="265428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659480" cy="2960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38080" y="472428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ir a la bol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679840" y="838080"/>
            <a:ext cx="3784320" cy="3784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62120" y="5029200"/>
            <a:ext cx="693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rop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882880" y="1143000"/>
            <a:ext cx="3529080" cy="2922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14400" y="449568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joy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2209680" cy="2170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24480" y="615960"/>
            <a:ext cx="1660680" cy="2813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321000" y="3429000"/>
            <a:ext cx="265428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132000" y="981000"/>
            <a:ext cx="2797200" cy="3745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68360" y="501336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cinero /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506520"/>
            <a:ext cx="3528720" cy="2922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2273040" cy="2273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514600" y="3429000"/>
            <a:ext cx="37782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4648320"/>
            <a:ext cx="761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maquillaj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189240" y="533520"/>
            <a:ext cx="291780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600800" cy="2994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04920" y="2440080"/>
            <a:ext cx="3754440" cy="1976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251080" y="1066680"/>
            <a:ext cx="2320920" cy="2362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3880" y="5029200"/>
            <a:ext cx="678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bocad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66960" y="838080"/>
            <a:ext cx="5410080" cy="4395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447920" y="518148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depor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554280" y="304920"/>
            <a:ext cx="2035440" cy="4251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52560" y="457200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regalos para mis amig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1305000" cy="2727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324480" y="609480"/>
            <a:ext cx="1905120" cy="1239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400800" y="1828800"/>
            <a:ext cx="1555920" cy="819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5715000" y="990720"/>
            <a:ext cx="960480" cy="977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2895480" y="1031760"/>
            <a:ext cx="2019600" cy="2397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4648320" y="3670200"/>
            <a:ext cx="29718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2209680" cy="2170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324480" y="615960"/>
            <a:ext cx="1660680" cy="2813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321000" y="3429000"/>
            <a:ext cx="265428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520" y="506520"/>
            <a:ext cx="3528720" cy="2922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2273040" cy="2273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514600" y="3429000"/>
            <a:ext cx="37782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90720" y="167652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o ahorro para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55840" y="2362320"/>
            <a:ext cx="278316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857680" y="533520"/>
            <a:ext cx="3579480" cy="35082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066680" y="46483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as vacacio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987640" y="549360"/>
            <a:ext cx="3375000" cy="424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11280" y="537372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marero /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444760" y="533520"/>
            <a:ext cx="4406760" cy="3713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295280" y="457200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navid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581280" y="380880"/>
            <a:ext cx="2705400" cy="3754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14400" y="457200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comprar vaqueros nuev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66680" y="703440"/>
            <a:ext cx="2781360" cy="2725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05520" y="838080"/>
            <a:ext cx="2736720" cy="2306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733920" y="3429000"/>
            <a:ext cx="199044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62120" y="53352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000000"/>
                </a:solidFill>
                <a:uFillTx/>
                <a:latin typeface="Comic Sans MS"/>
              </a:rPr>
              <a:t>¿Como gastaste tu dinero el mes pasa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419112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o gasté en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42920" y="620640"/>
            <a:ext cx="693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000000"/>
                </a:solidFill>
                <a:uFillTx/>
                <a:latin typeface="Comic Sans MS"/>
              </a:rPr>
              <a:t>¿Como vas a gastar tu dinero el fin de semana que vien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455616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o gastar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 en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4920" y="228600"/>
            <a:ext cx="883908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¿Como gastas tu dine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rmalmente lo gasto e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1206720" cy="1106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288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r al 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895320" cy="1517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380988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alidas con ami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28600" y="4952880"/>
            <a:ext cx="1600200" cy="15717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057400" y="55627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iscote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4648320" y="2054160"/>
            <a:ext cx="1752480" cy="1374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629400" y="2286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oy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4648320" y="3657600"/>
            <a:ext cx="1447560" cy="1219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477120" y="3962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2133360" cy="1355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934320" y="55627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bol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911520" cy="1905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981080" y="15238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galos para ami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1249200" cy="1482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981080" y="39625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quil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648320" y="1219320"/>
            <a:ext cx="1752480" cy="1423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629400" y="1523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epo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4952880" y="3048120"/>
            <a:ext cx="1905120" cy="12398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5029200" y="4267080"/>
            <a:ext cx="1555920" cy="819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4343400" y="3429000"/>
            <a:ext cx="960480" cy="977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010280" y="36576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bo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90720" y="53352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000000"/>
                </a:solidFill>
                <a:uFillTx/>
                <a:latin typeface="Comic Sans MS"/>
              </a:rPr>
              <a:t>Lo ahorro para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057400" cy="2016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514600" y="2514600"/>
            <a:ext cx="236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as va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2133720" cy="1798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5257800" y="1655640"/>
            <a:ext cx="1278000" cy="1773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905120" y="4800600"/>
            <a:ext cx="30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a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91360" y="1981080"/>
            <a:ext cx="262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omprar vaqueros nue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76720" y="333360"/>
            <a:ext cx="2732040" cy="4076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132000" y="4724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nfermera / 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32000" y="443700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ranjero /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76280"/>
            <a:ext cx="2719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76720" y="515772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ánico /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417672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564000" y="50846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édico /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76720" y="836640"/>
            <a:ext cx="28429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20:29:33Z</dcterms:created>
  <dc:creator>rhawkes</dc:creator>
  <dc:description/>
  <dc:language>en-US</dc:language>
  <cp:lastModifiedBy>Owner1</cp:lastModifiedBy>
  <dcterms:modified xsi:type="dcterms:W3CDTF">2008-10-28T18:41:45Z</dcterms:modified>
  <cp:revision>14</cp:revision>
  <dc:subject/>
  <dc:title>Slide 1</dc:title>
</cp:coreProperties>
</file>